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648531"/>
        <c:axId val="10751304"/>
      </c:barChart>
      <c:catAx>
        <c:axId val="266485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51304"/>
        <c:crosses val="autoZero"/>
        <c:auto val="1"/>
        <c:lblAlgn val="ctr"/>
        <c:lblOffset val="100"/>
        <c:noMultiLvlLbl val="0"/>
      </c:catAx>
      <c:valAx>
        <c:axId val="107513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485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D453-2F74-4A92-A1C5-649B8498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479F-64A7-412C-ABEB-5B680CF9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855D-D504-4C0C-A0F1-57C6237D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2DB1-8F8F-4576-BF44-C1B66925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0E19-9AE7-4FBF-A838-7A7DCBBE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3BC5-352A-4D96-9CBA-46BE1CE8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E8D8-4CF3-4C47-9CE8-251DD501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100A-5D67-42CD-B363-6DD57B0F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3A68-E5FF-4757-8ACF-F02F387E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9B47-D3AF-4F0F-A686-5DE02BE6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E3E3-F4BE-4769-8630-6F9C69D4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9C98-A771-428A-B4FC-D6CC7F7B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38550-D0CA-4C44-B67D-2C18054766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