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71992"/>
        <c:axId val="98553373"/>
      </c:barChart>
      <c:catAx>
        <c:axId val="53771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3373"/>
        <c:crosses val="autoZero"/>
        <c:auto val="1"/>
        <c:lblAlgn val="ctr"/>
        <c:lblOffset val="100"/>
        <c:noMultiLvlLbl val="0"/>
      </c:catAx>
      <c:valAx>
        <c:axId val="98553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71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537-798E-42FB-8351-934E6248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D35-7294-47FA-8530-0EC5AA87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199-BBDD-4832-AB87-C6EA6127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BFD-1E12-4CE1-A50F-4C3983E4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352-FB44-40CE-8ADF-01371F45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D54-A131-4124-BD33-BB02A031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246-C24A-4CBD-8220-EFE42E0F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0D8-3939-4960-9B2E-6B5FA0B7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1BC-86CD-4039-A713-B7855E7C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73E-456D-4FC9-8864-D1AFC69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41F-6FCD-4B05-AF92-E4219CA1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76A-3383-4CC9-86CF-3262367F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636C6-D114-4EA2-903B-13A1C9F28A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