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05149"/>
        <c:axId val="4144388"/>
      </c:barChart>
      <c:catAx>
        <c:axId val="41805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388"/>
        <c:crosses val="autoZero"/>
        <c:auto val="1"/>
        <c:lblAlgn val="ctr"/>
        <c:lblOffset val="100"/>
        <c:noMultiLvlLbl val="0"/>
      </c:catAx>
      <c:valAx>
        <c:axId val="4144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5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DE6-7791-46B1-BF85-D9FA0A43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4F5-D604-434E-A6E6-3742C00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0A9-A136-41FE-9C92-D2BD5A68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634-7CBB-4E83-999E-053C5F6F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924-DFE7-4047-81C3-8D6E5E1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670-52C6-4FFE-8C6D-5D3DD000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96D-28A2-48DC-894E-AF48E7FA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301-0EE3-445A-B61B-8392E89B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E4D-6B0D-44A9-B58E-97751ED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0D1-53D7-4D67-9693-EB6B1FA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A99-2125-4BCE-8523-F014D5B6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04E-8A49-4CE9-AE1B-A780C16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5E805-72F7-4999-883C-D834212B3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