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22420"/>
        <c:axId val="89968938"/>
      </c:barChart>
      <c:catAx>
        <c:axId val="60722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8938"/>
        <c:crosses val="autoZero"/>
        <c:auto val="1"/>
        <c:lblAlgn val="ctr"/>
        <c:lblOffset val="100"/>
        <c:noMultiLvlLbl val="0"/>
      </c:catAx>
      <c:valAx>
        <c:axId val="8996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2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BA4-2AB9-41F1-A7F5-DA31D27C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9E9-815B-4117-B7AE-1496952C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F60-7D5C-417E-A9A7-6C1F425C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FA1-2476-4FE0-9F10-F44042C5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99D-C043-4732-88CD-2C2F7C2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C25-6386-41FC-A3BD-F7798EE2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F99-0184-4FDA-B3DC-013C225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CB8-A2B7-405E-9B20-B92039CF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F8D-CE79-49C1-8684-A9E0024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D9E-0B0D-4DCC-9AF0-098F7C2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A29-FADE-440E-B3AD-514EDF8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934-999D-459E-8BB6-4321549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D9135-368A-4160-A889-67627E6D6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