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80314"/>
        <c:axId val="40343427"/>
      </c:barChart>
      <c:catAx>
        <c:axId val="12380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43427"/>
        <c:crosses val="autoZero"/>
        <c:auto val="1"/>
        <c:lblAlgn val="ctr"/>
        <c:lblOffset val="100"/>
        <c:noMultiLvlLbl val="0"/>
      </c:catAx>
      <c:valAx>
        <c:axId val="403434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80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AD9-89BF-44B4-96A4-40C1AB0C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8BD-107E-4AD8-8EBE-7A58D4AC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043-D173-4D10-B9B9-2AC2757C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6A9-B00D-4780-822D-97FD9759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A62-1A8F-4A97-9E54-4DC645FF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F4E-F892-428B-BAA3-61B3E774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8A5-D700-4590-8ECC-4FCD851B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7D4-2423-48A8-A44B-E9FEF76F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5DD-15D9-4C87-AB6C-EA43E8CE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6C7-0E09-46DD-8F1F-676E25F0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5CB-89C4-432B-B8AB-60B4C872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559-EB1B-42E2-BBAA-349C2A44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1ACB7-FC2C-435B-8A48-BE9916A961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