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58575"/>
        <c:axId val="63722918"/>
      </c:barChart>
      <c:catAx>
        <c:axId val="22658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22918"/>
        <c:crosses val="autoZero"/>
        <c:auto val="1"/>
        <c:lblAlgn val="ctr"/>
        <c:lblOffset val="100"/>
        <c:noMultiLvlLbl val="0"/>
      </c:catAx>
      <c:valAx>
        <c:axId val="63722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58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5C3-14D5-4CF4-9D28-700DC153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AD5-119D-4424-8920-D421BF67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850-3BDA-4034-917B-2C9D9B70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D28-259D-4F30-9D77-250232CA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79D-C325-4C76-8286-07F74FE8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D1B-ADF7-41DE-A3C7-4CD27D02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D00-D2BA-4CC7-A3A1-87D944F1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61F-493C-4778-B285-C0F2F6B5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C39-268F-4E14-BBC8-BD11B32D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AD7-5FF5-4F5E-A78F-885743D7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7E3-D140-4F5A-9196-48506DC4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7D2-4E2B-4483-99A4-F3007DAA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12390-44EE-4225-8F42-1EBBB156FA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