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8523"/>
        <c:axId val="26814514"/>
      </c:barChart>
      <c:catAx>
        <c:axId val="38728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4514"/>
        <c:crosses val="autoZero"/>
        <c:auto val="1"/>
        <c:lblAlgn val="ctr"/>
        <c:lblOffset val="100"/>
        <c:noMultiLvlLbl val="0"/>
      </c:catAx>
      <c:valAx>
        <c:axId val="26814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8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1C8-FF7A-484F-85B0-FC08D035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1CE-D70B-492A-8F5D-251E2A1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041-CAC9-4E0E-8C84-A42C7586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C32-0785-41E7-82BE-8EDF21B1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50C-F43D-478D-A886-A0ED73D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885-BFFD-4D8E-BB0B-1FC75B0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24A-3ACD-4ED6-923F-E8D1A2CB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BBE-9D1E-4DFE-883D-665F162A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3A9-F205-489A-8E41-E0E9F94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552-0816-48B3-97DD-C7F9B7A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555-4BB2-4600-816D-FDD6364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966-EC65-4077-BEE9-12A81FC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39622-D9F1-49AD-B867-FE2F2BEF2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