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99431"/>
        <c:axId val="37915130"/>
      </c:barChart>
      <c:catAx>
        <c:axId val="33399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15130"/>
        <c:crosses val="autoZero"/>
        <c:auto val="1"/>
        <c:lblAlgn val="ctr"/>
        <c:lblOffset val="100"/>
        <c:noMultiLvlLbl val="0"/>
      </c:catAx>
      <c:valAx>
        <c:axId val="379151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99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D73-2F64-4ABE-B90F-183E86CB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1AA-69B7-4631-AAB7-5D21EB33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EDA-3A0A-435A-941C-DC1DAC40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EA0-8C9B-425A-95F1-867EA79EA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B8F-E29E-4B29-A230-4C22307C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742-C147-42E9-AFA6-D8CAD543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F41-4BCD-4D0D-A005-67942976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CCF-333A-4FF9-876C-7D135C1C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695-6CA7-4628-86F7-9CBC429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70C-8DFF-42D2-840C-77B34E1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CC1-32D3-41B2-8D3C-60055A0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B48-1AFE-4F04-B712-0DE904C5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4FC1-71DC-4A8A-9CFF-3748273123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