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13252"/>
        <c:axId val="54686753"/>
      </c:barChart>
      <c:catAx>
        <c:axId val="31513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6753"/>
        <c:crosses val="autoZero"/>
        <c:auto val="1"/>
        <c:lblAlgn val="ctr"/>
        <c:lblOffset val="100"/>
        <c:noMultiLvlLbl val="0"/>
      </c:catAx>
      <c:valAx>
        <c:axId val="54686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3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4FD-AF45-4D45-ACDA-936C0806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0B9-206E-42D0-9060-1D0D477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C17-C0E0-4B31-83DC-BF52195B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4AC-8E4F-4783-8D88-6E1CB7B8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93B-6E46-4899-B006-CA0CE9D2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ECB-73A3-4B8C-BFB0-0A8E52F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92F-7645-4162-847C-467681C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EAB-5E47-4969-98AD-8CB3B1C5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865-B21C-46C1-B949-9E3568F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F69-C514-4341-8CFF-CA79914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3B5-0C94-42C7-BC77-82536B9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1E1-1DA6-4AC4-B9E5-D691858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87FBF-955E-4E64-86CA-6A8F984A2E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