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656345"/>
        <c:axId val="1182239"/>
      </c:barChart>
      <c:catAx>
        <c:axId val="67656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2239"/>
        <c:crosses val="autoZero"/>
        <c:auto val="1"/>
        <c:lblAlgn val="ctr"/>
        <c:lblOffset val="100"/>
        <c:noMultiLvlLbl val="0"/>
      </c:catAx>
      <c:valAx>
        <c:axId val="11822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56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C38-34E7-40BA-B2F5-AB694BFF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FBD-9183-42A5-83D7-C1CE1788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D57-7C3F-42C1-9641-683A90C5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813F-EE88-4D57-8F39-6C28EDA2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577-DC67-497A-88E7-80EA6ECA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1ED5-B9A8-4D1B-94E0-21C2B163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651-4B2B-4BA0-8C46-77D06B71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A06-0CAD-4E60-9AD9-864FA01F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41D-21C2-4843-9A92-8DD2F244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807-3447-46E0-9602-7189FC7F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1DE-89FB-413B-8442-26FB76C9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853-F6EA-49ED-B5B7-08B6FB85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1DA78-DC13-44BA-85B6-903F25A417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