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82253"/>
        <c:axId val="31690786"/>
      </c:barChart>
      <c:catAx>
        <c:axId val="97982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90786"/>
        <c:crosses val="autoZero"/>
        <c:auto val="1"/>
        <c:lblAlgn val="ctr"/>
        <c:lblOffset val="100"/>
        <c:noMultiLvlLbl val="0"/>
      </c:catAx>
      <c:valAx>
        <c:axId val="31690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2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8FC-6660-40FC-892E-663130FE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C25-F565-48B4-9BAB-A6A99C9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358-03BA-43EA-84A5-8AFC5741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333-2743-449A-AEB3-EFB8B1A4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CAA-FE11-4102-816E-D2F8479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171-9CF7-438C-AF2F-386BAC44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1C6-F3A4-4AA5-BC28-873AB2F7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D26-2310-49AD-AA25-D5BE1B4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7AC-8EBA-415C-8ACC-F4A9A8B4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78B-179D-4E09-821E-14F4D29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2B0-A434-4F15-8BEC-A4E2E6B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5CF-DBE6-48BA-B186-5E6A26B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DD33D-2516-4B34-96FE-1A32207C72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