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76078"/>
        <c:axId val="92572541"/>
      </c:barChart>
      <c:catAx>
        <c:axId val="57976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2541"/>
        <c:crosses val="autoZero"/>
        <c:auto val="1"/>
        <c:lblAlgn val="ctr"/>
        <c:lblOffset val="100"/>
        <c:noMultiLvlLbl val="0"/>
      </c:catAx>
      <c:valAx>
        <c:axId val="9257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6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2AA-72C0-4E54-A921-B820AD45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02C-21FF-4B77-9572-BA3E53E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EE8-89B1-4BAF-B5B6-CE1B828E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98A-6DBD-42C0-8870-413E3530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6E6-1F20-496E-8450-34DE7F3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CD7-BD51-469E-A5CF-6BC4529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919-E639-4182-ADDD-D53B5548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80D-DFB0-4018-96E2-7DD8F09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4F0-CF6B-444F-9D41-92E945B0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B10-CE5B-48F8-AB38-A49B320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65D-3C1C-4FB3-BCB7-6CE41EA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E2F-EA2F-4632-9388-C0C35FF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F0D16-A0A2-472D-A1CB-AAEED37E8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