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19569"/>
        <c:axId val="90729638"/>
      </c:barChart>
      <c:catAx>
        <c:axId val="30195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29638"/>
        <c:crosses val="autoZero"/>
        <c:auto val="1"/>
        <c:lblAlgn val="ctr"/>
        <c:lblOffset val="100"/>
        <c:noMultiLvlLbl val="0"/>
      </c:catAx>
      <c:valAx>
        <c:axId val="907296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195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7C5D-B515-4AAA-B4D5-E07CC0324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8B8A-9848-4A8B-9720-6013FAF4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01DD-2C20-4B41-89CE-7F0A72EC5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F111-7816-410C-BD86-55B1BDEBE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C788-C694-41D4-AAB9-FF45556A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A4A4-6F5A-431B-B291-C4D44EAB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6028-550F-42FE-9ED7-40B3AD39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A230-FAE7-432E-8286-49670472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98C9-CA00-4CAC-B0B9-5AA6D66B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79CC-3C99-4454-A541-679218F8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C381-A64D-4FEA-B953-70ADA44A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2106-9B6B-4241-82D7-5784F8EE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07C62-ED5B-4F3E-8C05-534DBBA039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