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99477"/>
        <c:axId val="68922800"/>
      </c:barChart>
      <c:catAx>
        <c:axId val="83999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2800"/>
        <c:crosses val="autoZero"/>
        <c:auto val="1"/>
        <c:lblAlgn val="ctr"/>
        <c:lblOffset val="100"/>
        <c:noMultiLvlLbl val="0"/>
      </c:catAx>
      <c:valAx>
        <c:axId val="68922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9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5B1-30D1-424E-9A8B-B12AAA15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98F-8178-49BA-BA31-C85899FD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43B-95AC-4064-BDCC-9D6CF12D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AD7-1342-4CE6-BFC3-0EBCEA4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CC9-F92B-4027-B583-2F486D7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C3B-C6E0-4F7D-98AD-1093FE4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B0A-022A-42C3-A830-1DE22F5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AE5-877D-4EE6-B229-7A8CC4B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662-BEB8-4B17-BB8D-861444E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61A-D702-4E56-B7EF-2F21AFD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52A-8BAD-4C57-85C0-2A4C7C1E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410-F46C-42E4-87E8-35A94C4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D740C-FF01-4894-8A80-6D1DFAD39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