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50840"/>
        <c:axId val="43438161"/>
      </c:barChart>
      <c:catAx>
        <c:axId val="13250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38161"/>
        <c:crosses val="autoZero"/>
        <c:auto val="1"/>
        <c:lblAlgn val="ctr"/>
        <c:lblOffset val="100"/>
        <c:noMultiLvlLbl val="0"/>
      </c:catAx>
      <c:valAx>
        <c:axId val="43438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50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3B9-0321-40FA-B65A-6CCCF644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C56-8D91-4FC3-B598-5E38A8A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7F1-4EB1-45BA-BF0E-B3377C53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74F-2A90-40A5-A3BE-782E63BC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AAB-1305-489C-9DF6-F045005F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A6A-7E15-44BD-85A7-34B4290D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958-5C28-4974-9FB9-4CBA7EB3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982-0A48-4C84-A200-EF1B127A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C6D-16DB-4E24-8871-D1ADF164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951-F36B-4897-9B2E-619FB591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DFF-25D4-4D64-8B1A-2BEF7F27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678-E15D-44BD-B3D8-DC3E3B96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4ED7F-FB3A-4651-B731-CB351C23E1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