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65070"/>
        <c:axId val="64880512"/>
      </c:barChart>
      <c:catAx>
        <c:axId val="71665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80512"/>
        <c:crosses val="autoZero"/>
        <c:auto val="1"/>
        <c:lblAlgn val="ctr"/>
        <c:lblOffset val="100"/>
        <c:noMultiLvlLbl val="0"/>
      </c:catAx>
      <c:valAx>
        <c:axId val="64880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65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404-73FB-49D1-B541-74EFB1D8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B09-E8A9-4DE7-8EDE-7B393927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C06-3246-42E8-B30A-F54C7218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072-F485-4948-8D7C-22B34A90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841-0CAD-4EC1-AA14-94FC6291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38E-A217-4988-9124-F5EAEEE4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E23-4A6A-4F07-BCA8-9B5C4CA8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8DD-79F4-4C12-AFE0-C4F216BE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284-39A1-4716-81FD-B1207736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945-1879-45E6-85AB-23078B23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384-6598-4007-82A9-5E4C4F9A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112-2FB9-495B-8A73-2C3C910E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2BD0D-67F8-48A6-B21C-B678CB7ECE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