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70265"/>
        <c:axId val="13854159"/>
      </c:barChart>
      <c:catAx>
        <c:axId val="58670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54159"/>
        <c:crosses val="autoZero"/>
        <c:auto val="1"/>
        <c:lblAlgn val="ctr"/>
        <c:lblOffset val="100"/>
        <c:noMultiLvlLbl val="0"/>
      </c:catAx>
      <c:valAx>
        <c:axId val="13854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70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0F4-0D3F-47BF-88EC-0AC949B2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92D-EE7F-45BA-8B77-A821296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213-078E-4BEC-ADDE-724E7955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633-8BD9-4D8D-B57A-0423171F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457-D1CD-419B-AABE-36C31B6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4E8-17B3-4916-A9EC-642E6358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8D4-B52A-4BAD-8CF3-EC74C65C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753-86BE-4312-B86F-27F027B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A56-0F90-416F-AF81-5CC5BD7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61F-DBA5-4FE3-8798-9C2DCAA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F6E-6923-4EEA-AC24-256E31A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FD8-94BD-4568-8BDB-C300287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CB3A-38A6-4179-A769-53385C3694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