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41066"/>
        <c:axId val="27846349"/>
      </c:barChart>
      <c:catAx>
        <c:axId val="2141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46349"/>
        <c:crosses val="autoZero"/>
        <c:auto val="1"/>
        <c:lblAlgn val="ctr"/>
        <c:lblOffset val="100"/>
        <c:noMultiLvlLbl val="0"/>
      </c:catAx>
      <c:valAx>
        <c:axId val="27846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1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1B9C-18D6-4D97-AD15-9EE9C1F8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A4C-A85F-4DDF-9C31-BB987C28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A1C-EE7E-4681-B392-504939B3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AD4-BA67-47A4-8381-1C039C3B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607-4512-4B5D-99A9-1ACAB96F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B3F5-94A2-4814-92A0-28EF5B6E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AA8B-A09B-4E2A-A05F-DCCBA71B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ECE-E84E-4D52-B4B0-7156F904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144A-15CD-4AB9-85D7-BBBA1135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703A-1969-470D-911E-8DFA8F59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6A06-C044-4B7F-A64F-9C2522D3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6F9-55C6-479A-B9C8-F471698B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E7F1E-93D4-43A8-A705-3C93324672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