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47470"/>
        <c:axId val="84608398"/>
      </c:barChart>
      <c:catAx>
        <c:axId val="74547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08398"/>
        <c:crosses val="autoZero"/>
        <c:auto val="1"/>
        <c:lblAlgn val="ctr"/>
        <c:lblOffset val="100"/>
        <c:noMultiLvlLbl val="0"/>
      </c:catAx>
      <c:valAx>
        <c:axId val="846083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47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616-4F11-41E1-B917-8F4B4DAE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C96D-996E-4BDD-8CA4-B9E02BAF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21B-378F-4AEF-A32F-F8666AE4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E93-4295-4C01-8591-6E71D0B9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02A-7167-4853-B210-896E7700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CCD-CDAD-4AF5-BD95-6205794A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0ABF-2BBC-4368-9658-94ED4646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505-5754-4697-A6EA-495A3C23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82E-EB10-40B3-87BD-9E7B0F09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C6E-F320-4D2A-9B5E-3A2441B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3C81-ABA1-46DD-80BA-60097BE9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575A-BE1D-4841-AE62-56341D06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ADDF5-2F24-498D-BDD0-75E8B8E98A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