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44548"/>
        <c:axId val="68264483"/>
      </c:barChart>
      <c:catAx>
        <c:axId val="47644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64483"/>
        <c:crosses val="autoZero"/>
        <c:auto val="1"/>
        <c:lblAlgn val="ctr"/>
        <c:lblOffset val="100"/>
        <c:noMultiLvlLbl val="0"/>
      </c:catAx>
      <c:valAx>
        <c:axId val="68264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44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B75-CB3D-457F-AB00-C60C39F0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C48-B144-40CE-9C8B-9F2BBC99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54D-1061-4E81-AD31-BA1AEDD2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1B2-6968-46E7-9ADC-B039AC52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36B-46EE-4D5B-B2A3-58174BEE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F21-BFF0-4E9D-BC4B-BF3D59B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A9A-ED50-4161-978C-12649B9A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148-5FC0-44DD-9E0C-0910F854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680-1CC6-4488-9820-00144425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6E8-0B7E-4B91-A1AB-AD1C491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A96-A911-4CA5-B1AB-96CF7AC4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91F-DA69-48F0-8572-E0025F3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E94E1-5E2A-4176-80C9-14F28A873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