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68438"/>
        <c:axId val="71769841"/>
      </c:barChart>
      <c:catAx>
        <c:axId val="26368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69841"/>
        <c:crosses val="autoZero"/>
        <c:auto val="1"/>
        <c:lblAlgn val="ctr"/>
        <c:lblOffset val="100"/>
        <c:noMultiLvlLbl val="0"/>
      </c:catAx>
      <c:valAx>
        <c:axId val="71769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68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924-8EDF-403D-AA5C-ABB7652B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85C-7CED-4DF8-9D76-42D7DF1C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476-196E-4B14-9D54-0CDA1657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0A7-5527-4F77-8FFA-1CD6A817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54E-E4EA-49B4-AE17-F478F369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60C-1017-48E3-983C-AF786CCD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9D5-86A5-48C3-BB4A-A230157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E4F-15AA-4250-B8CB-CC27F946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2B8-17B5-44C3-84EF-6389AB5D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63C-36AC-45AA-93D6-556640F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099-59EE-4230-953C-F63F29D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9D5-A4C6-48A3-8CE7-3878F797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286A5-84DD-4AF2-A58C-005FA40FC3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