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12507"/>
        <c:axId val="98656629"/>
      </c:barChart>
      <c:catAx>
        <c:axId val="39312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6629"/>
        <c:crosses val="autoZero"/>
        <c:auto val="1"/>
        <c:lblAlgn val="ctr"/>
        <c:lblOffset val="100"/>
        <c:noMultiLvlLbl val="0"/>
      </c:catAx>
      <c:valAx>
        <c:axId val="98656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12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B91-BA65-45D0-9674-E60C5778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381-12A5-49A3-92B9-75992A5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DB2-F6DA-4024-A2E8-70BCD5F3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8F8-2464-45F7-95B6-721257C0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442-F445-4A4A-B245-6BA0B22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F73-996B-4CA4-9B79-01E59573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81A-2C38-48DC-AD55-F6669E0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00D-2143-4AB0-8307-4D91CBF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993-B2B4-4FCE-B283-2440D0D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A50-B835-4F97-AA96-A734C12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CA6-C198-47AA-9C99-AE7A23C5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F76-06CC-46C6-A8AE-DE6030F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138FC-CF94-4D97-9AFA-D37761EA9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