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66646"/>
        <c:axId val="10924703"/>
      </c:barChart>
      <c:catAx>
        <c:axId val="67266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4703"/>
        <c:crosses val="autoZero"/>
        <c:auto val="1"/>
        <c:lblAlgn val="ctr"/>
        <c:lblOffset val="100"/>
        <c:noMultiLvlLbl val="0"/>
      </c:catAx>
      <c:valAx>
        <c:axId val="10924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66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406-ACC6-4FB8-A5FE-3CE73A82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D8D-6C72-482D-B781-4DB67189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00E-DCAA-41A1-B117-6F8D45E8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AE9-C67A-4FF4-9910-70982A16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B0D-9E83-4FB1-925E-70E8B27B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2A8-8A9B-4A9A-8572-590C9EE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152-9B53-41F6-9857-D7BB3C1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E88-536F-45EA-93E5-A1C148E9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CFB-728C-42F5-A154-E1A36F7B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255-8165-4C41-BDCF-EF15A93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F88-ABAC-467A-AF82-A556F9D7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1CB-BB21-42A4-9A13-2CDE463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C5B4-6232-4493-BB2B-790F443E2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