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064969"/>
        <c:axId val="25531549"/>
      </c:barChart>
      <c:catAx>
        <c:axId val="480649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531549"/>
        <c:crosses val="autoZero"/>
        <c:auto val="1"/>
        <c:lblAlgn val="ctr"/>
        <c:lblOffset val="100"/>
        <c:noMultiLvlLbl val="0"/>
      </c:catAx>
      <c:valAx>
        <c:axId val="255315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0649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C8DA-682F-4938-B0E2-B56BD32E5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3A2A-8D26-49FD-A39C-9095BB13C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8365-2B96-4DA6-A7B6-F471FA795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881F-3D43-4DCC-8A4A-A51EA2B87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7D16-34B4-4F85-8A34-7F27862AA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51DC-A133-4770-8E1B-E8FD7B4B3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9EE9-4DCC-49C3-92D4-B2F9C5510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AE15-5695-44E1-9257-A0B7767AE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77FC-3A38-494F-B2B0-676A50F95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F845-38C6-4EA7-822C-6AAC9C9E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2A83-D4E6-40DF-B763-FC2B90B9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9745-A319-40CC-8F6B-8050F9A3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DB8BFA-D91F-474E-B35A-086519F0DCB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