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810882"/>
        <c:axId val="708216"/>
      </c:barChart>
      <c:catAx>
        <c:axId val="91810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216"/>
        <c:crosses val="autoZero"/>
        <c:auto val="1"/>
        <c:lblAlgn val="ctr"/>
        <c:lblOffset val="100"/>
        <c:noMultiLvlLbl val="0"/>
      </c:catAx>
      <c:valAx>
        <c:axId val="708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10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87D-665D-4D2E-B715-ADB07AA5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305-4C21-4EB9-9007-15CA1F9F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627-E354-433B-8203-0390EAD5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999-AE3F-4C5B-862B-63B39A97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784-3D5F-423E-99F7-8FC364AE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CB1-1AE1-4DE0-9641-76287156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A18-CCE1-4C73-8849-D215C61A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542-CC37-43D0-8653-8CA8B376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FCDD-F785-4CD2-90C8-28C61C4E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BE4-233B-4511-8753-E8169A03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AED-9FD5-48CD-9DB1-56D295AC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DC1-0190-480A-A145-61031639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FFA14-A18C-4A90-8EC4-56F3CB31A4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