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0295"/>
        <c:axId val="77697327"/>
      </c:barChart>
      <c:catAx>
        <c:axId val="8350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97327"/>
        <c:crosses val="autoZero"/>
        <c:auto val="1"/>
        <c:lblAlgn val="ctr"/>
        <c:lblOffset val="100"/>
        <c:noMultiLvlLbl val="0"/>
      </c:catAx>
      <c:valAx>
        <c:axId val="77697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A36-F2D0-4AF7-8B5C-6086FF8D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3E8-6602-458E-B515-1701E8B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2A5-6F3A-48A6-BD17-BE039187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57C-2D9B-4422-8FC0-B989B035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F19-ECEC-4865-A821-AAA1A2E6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726-ED8E-407C-90AB-9EF01E5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8E7-0B92-4F94-83BF-DB1D3A21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E28-D57F-43F1-A2C6-B8929DAC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C66-8037-417A-87C1-ACDC265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568-C5EB-42F1-917D-61A3736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612-6EDC-44AD-B895-C5DE28B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8E4-014D-4FAA-B1E6-B9D8285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ECCA3-3C00-47EA-A5C1-962C9EBA65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