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551706"/>
        <c:axId val="50823313"/>
      </c:barChart>
      <c:catAx>
        <c:axId val="175517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823313"/>
        <c:crosses val="autoZero"/>
        <c:auto val="1"/>
        <c:lblAlgn val="ctr"/>
        <c:lblOffset val="100"/>
        <c:noMultiLvlLbl val="0"/>
      </c:catAx>
      <c:valAx>
        <c:axId val="508233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5517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F9CC-6592-4220-9495-49C166E53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024F-7860-4FEF-A57A-41CC10204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5D79-4FFA-45F0-A063-2CF312844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2743-FED6-4680-8893-0D5F3EE66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0667-8096-4421-ADB0-77370EFCA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8CFC-8814-40A2-A442-732AD4C85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9916-B906-4C71-A5AC-56FBEB3C4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90AD-7352-4A51-9414-3C0ECCEE8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E9F5-EF7E-4E96-8AA2-6B4E0378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F97A-ACCD-4D04-B3F3-ECD7E1AD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5CC5-6393-4EE2-80B4-9C4EBC3C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F0E1-3CB7-42DD-83F5-B1F9B080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343F00-2BBA-46AD-9AD5-5FF5388ED66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