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85993"/>
        <c:axId val="65015774"/>
      </c:barChart>
      <c:catAx>
        <c:axId val="485859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15774"/>
        <c:crosses val="autoZero"/>
        <c:auto val="1"/>
        <c:lblAlgn val="ctr"/>
        <c:lblOffset val="100"/>
        <c:noMultiLvlLbl val="0"/>
      </c:catAx>
      <c:valAx>
        <c:axId val="65015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859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37BB-87D8-4FC8-BF36-F5C77AB0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7ED2-A8BC-4D7A-9F6F-B9182CAA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113-61BF-4B1E-B928-DAD7AD8E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D9C-B75A-4148-A550-534D7CAB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09E-5EE5-4F85-8DD5-1B386E71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8172-D941-402E-95B2-97EB8E98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A938-CCD2-4933-9BAC-18132B06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7DD-36E0-48E0-B6D5-775E0F6A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86A9-C3B9-4B5A-83C9-3DA0E547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BAF-D4BD-453D-ADDB-67ED6642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170C-67F0-4BF1-B48C-E4235CAF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BC9-61F8-4503-BF77-581A5052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F90BA-B4E9-4CC8-A8F4-46F8607BB8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