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91996"/>
        <c:axId val="39288720"/>
      </c:barChart>
      <c:catAx>
        <c:axId val="65491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88720"/>
        <c:crosses val="autoZero"/>
        <c:auto val="1"/>
        <c:lblAlgn val="ctr"/>
        <c:lblOffset val="100"/>
        <c:noMultiLvlLbl val="0"/>
      </c:catAx>
      <c:valAx>
        <c:axId val="39288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1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F60-E740-4BA2-AC9A-88093A96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82E-4AD6-4314-AE42-EB9AB5D3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058-F916-4F8C-A7E4-DEF5DB29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0CA-7FEA-4966-9885-60411929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D52-8F61-47A7-B2FE-AAE41AC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749-0986-4280-B63B-A2F361C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13D-80AC-4673-9CAE-B1822F7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674-AEE5-487E-8326-B2EAA36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C47-4883-412A-8EE2-FCAC584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77F-967B-412F-B124-C5B6127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61C-7274-480C-BD76-A8559395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D12-9F64-4E54-B970-33F285B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D563-7018-41B3-90B3-E8E2AB7E07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