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94952"/>
        <c:axId val="49189575"/>
      </c:barChart>
      <c:catAx>
        <c:axId val="98894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9575"/>
        <c:crosses val="autoZero"/>
        <c:auto val="1"/>
        <c:lblAlgn val="ctr"/>
        <c:lblOffset val="100"/>
        <c:noMultiLvlLbl val="0"/>
      </c:catAx>
      <c:valAx>
        <c:axId val="49189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4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7A6-4CC8-4C1E-82A8-BEC6D8ED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AED-E4DF-4018-8977-33BA66FE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F4E-120D-4FBE-8734-A349279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F12-C12A-4AF8-89D5-8FE512D6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03C-C3EC-4620-A9B0-37D0C2B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53C-0EAF-4B49-8AEA-4607BD4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21-7835-4C14-8B6E-B9F4B0D4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DA2-FF08-496C-B611-8569623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FAD-EB18-4711-9B9E-E138747E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44A-2F25-46F5-8C4D-FA653D3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CE3-2AFD-47AD-917C-223DC90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195-EA15-4A02-911C-48BE287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2E6BE-4279-4F52-8EE8-F4F907AEC1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