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9018"/>
        <c:axId val="29754361"/>
      </c:barChart>
      <c:catAx>
        <c:axId val="398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54361"/>
        <c:crosses val="autoZero"/>
        <c:auto val="1"/>
        <c:lblAlgn val="ctr"/>
        <c:lblOffset val="100"/>
        <c:noMultiLvlLbl val="0"/>
      </c:catAx>
      <c:valAx>
        <c:axId val="2975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7AF-8AF9-4E27-852F-8E7F20FD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230-87FC-4B29-A781-9251A1B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BA1-E216-4AB3-A276-9A6B840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3F0-7DB8-4307-AE86-C440EEB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E87-9CE1-41F2-A69E-6C130EAC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0A7-0760-4153-9D99-CC71411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15F-B0BC-4A79-AB38-1F8AEEC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26A-2F37-46D1-818F-A1DBC1B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A54-972D-4D4C-AC71-5A18714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CDC-D156-4A36-9B28-B8C016C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E10-3216-4E47-9869-B6DD8B0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51E-0218-4F6A-9D5B-231DE3F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40944-D15A-406D-825B-9A678AA2F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