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364993"/>
        <c:axId val="29138447"/>
      </c:barChart>
      <c:catAx>
        <c:axId val="803649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138447"/>
        <c:crosses val="autoZero"/>
        <c:auto val="1"/>
        <c:lblAlgn val="ctr"/>
        <c:lblOffset val="100"/>
        <c:noMultiLvlLbl val="0"/>
      </c:catAx>
      <c:valAx>
        <c:axId val="291384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3649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83BD-F7D9-4D0A-A982-9B086C27B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B12B-9FB1-41FC-A4C4-BEC7F1F21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90C2-486B-439B-87C2-2EE4AFF8F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CBB3-9268-4197-A611-DB83A0EC7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D3DA-6C95-4543-9B71-80EE74767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707F-8777-4604-A8AB-E43D23642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D40A-5D20-41C8-91F7-8A6F08D74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826C-2547-4650-B547-34094BB92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A39A-409E-4387-B2D4-0C1D909C7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8858-D468-4012-9561-C706BA5D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E65B-D52A-413C-89CA-A23BEA4F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6D3F-7BF2-4D94-ACBE-B39FF7AF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F5DF8E-4A46-4D74-9F2F-2458F21F053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