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78153"/>
        <c:axId val="51297488"/>
      </c:barChart>
      <c:catAx>
        <c:axId val="42278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7488"/>
        <c:crosses val="autoZero"/>
        <c:auto val="1"/>
        <c:lblAlgn val="ctr"/>
        <c:lblOffset val="100"/>
        <c:noMultiLvlLbl val="0"/>
      </c:catAx>
      <c:valAx>
        <c:axId val="51297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8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8B7-7122-4F88-8579-92E56FA7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8AF-AE81-4320-B8B4-F03E1C5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BF1-1EE8-4F0A-9DB7-245BAAD6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C51-2404-41FC-9C13-BE8F627F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385-3166-4A76-A7DE-04A96110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99D-8B9A-446B-878C-1A26256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A8D-3619-4161-A326-424B159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F94-37B1-4B37-894A-792B8604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212-119F-45ED-815D-69F6EDD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22C-CED2-4B68-9488-35512B3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C53-741A-445A-AA44-CA6CD90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7E6-D379-4115-A5C4-C5905B7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C12C-7DBF-4A6B-A5C4-75A34F46C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