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47161"/>
        <c:axId val="54015048"/>
      </c:barChart>
      <c:catAx>
        <c:axId val="39747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5048"/>
        <c:crosses val="autoZero"/>
        <c:auto val="1"/>
        <c:lblAlgn val="ctr"/>
        <c:lblOffset val="100"/>
        <c:noMultiLvlLbl val="0"/>
      </c:catAx>
      <c:valAx>
        <c:axId val="54015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47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DE6-4389-44F0-872B-23B895F9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F1F-FE5A-47A3-94DF-F81E2F6E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BA7-F5E7-4166-821E-E2FC06C4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BCB-D2A5-4494-B6FF-99425A38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179-D181-4B11-9301-4DA69726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61B-E31D-42BD-B745-A0F18CD1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025-327A-4F55-874F-5A14D0D0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3DA-50E8-44E0-8FC1-72E700E5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C7F-1AB5-48D2-A061-DED1E8F6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8F9-167E-4E65-A3ED-F08220D0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2BA-9D17-403F-AF11-2C82557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7EB-CBE1-4DE9-B3AF-C5912723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28C27-9E3F-4604-9BF2-2126F2F34A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