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0887189"/>
        <c:axId val="3609581"/>
      </c:barChart>
      <c:catAx>
        <c:axId val="9088718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09581"/>
        <c:crosses val="autoZero"/>
        <c:auto val="1"/>
        <c:lblAlgn val="ctr"/>
        <c:lblOffset val="100"/>
        <c:noMultiLvlLbl val="0"/>
      </c:catAx>
      <c:valAx>
        <c:axId val="360958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88718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BD578-AEAC-479C-BCCB-11A5EE88F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84A69-DF48-455A-9098-10500ADA2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CA097-651C-4A14-B930-9FF7ADCBB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B4A40-EC6F-4345-8E8A-09C577BD2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FAADD-1BDA-4FA9-9A18-FE92A0ADC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F60BC-8EAF-4F61-9302-4DFB16DCF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5848E-CCD5-4707-8CA7-E7ED537F4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E5413-CC8E-4F88-94B0-233FEBED5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B6B43-F8E6-4534-A94B-FAAB57256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13A3D-8929-4F4E-9589-B655B0DA3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12B48-C097-4CEC-A049-02FF5D8C0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085BB-6C12-4B3E-925C-14AACA238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D9F613-F89D-409F-AAF2-A4A59D7F2D9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