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82388"/>
        <c:axId val="52801463"/>
      </c:barChart>
      <c:catAx>
        <c:axId val="10182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01463"/>
        <c:crosses val="autoZero"/>
        <c:auto val="1"/>
        <c:lblAlgn val="ctr"/>
        <c:lblOffset val="100"/>
        <c:noMultiLvlLbl val="0"/>
      </c:catAx>
      <c:valAx>
        <c:axId val="52801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82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17F-FFF2-422C-A1E0-BA3C1E85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3FA-8A86-4F2B-B9A5-EEDF370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7E9-535F-4A32-ACDF-A5666BEA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30D-91EE-4E3B-AB54-8F13F21D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7BA-0FC0-4F08-B50C-19F44273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055-A75B-429D-82D5-CD07DDB6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C3A-68E1-40AE-8DC4-E7CC97FB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66A-57EC-49B3-BE7D-1743EDBC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038-0CA3-463A-BA6F-31B44950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A4A-20E4-4FF9-A81D-B22BDF5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918-8A82-44CA-9F01-2700346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3A8-A1A6-4E36-885F-D947BF87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12E3A-CD90-47E1-8C90-6F71848FD9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