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76153"/>
        <c:axId val="74621907"/>
      </c:barChart>
      <c:catAx>
        <c:axId val="98376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21907"/>
        <c:crosses val="autoZero"/>
        <c:auto val="1"/>
        <c:lblAlgn val="ctr"/>
        <c:lblOffset val="100"/>
        <c:noMultiLvlLbl val="0"/>
      </c:catAx>
      <c:valAx>
        <c:axId val="74621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76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90F-4950-48AA-8FC8-1FA4EE2E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13A-1C42-4AA5-A6CB-F4B967F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566-722B-4BB2-8257-A7D1FA5B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232-7092-4715-AC74-9A018117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575-C700-4F46-970D-6457CAFF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F4C-9EC0-4986-BD5F-45C242CB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692-A218-409F-85F6-44C4062D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665-0A5C-455D-AE11-8AB90EAD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FB1-D9B9-49D1-996B-54A59DC1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324-ABC1-4059-A687-1B07D709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900-4733-4A23-BC73-8052086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8A2-F4EB-4FE0-A30B-65085811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37AE3-4525-4793-9186-125C9263A8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