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17474"/>
        <c:axId val="7219572"/>
      </c:barChart>
      <c:catAx>
        <c:axId val="48917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9572"/>
        <c:crosses val="autoZero"/>
        <c:auto val="1"/>
        <c:lblAlgn val="ctr"/>
        <c:lblOffset val="100"/>
        <c:noMultiLvlLbl val="0"/>
      </c:catAx>
      <c:valAx>
        <c:axId val="7219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7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DDD-3CF5-4E3F-B6CC-9CA7A339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EDF-7D9A-4946-8B4E-C131D9A2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49E-8DD0-49D8-A626-DBB94063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6F5-C1BE-4E19-AE82-8EEDE9DF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9A5-50F6-46D6-8256-8BF5F79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84D-D312-45BD-BCE9-1BC6C6C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005-1DD7-4D0E-993B-BA40E4CF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AC8-163D-4500-A917-014D9A6B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3DD-D801-4D54-8D4F-C5E0D755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8DE-B008-4E62-9B9B-7564076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A27-9621-4545-9723-2D827B5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B55-762D-4125-99E5-E0AF2A2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7EE76-4411-49C7-8912-0022A0C3F5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