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943899"/>
        <c:axId val="4314146"/>
      </c:barChart>
      <c:catAx>
        <c:axId val="879438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4146"/>
        <c:crosses val="autoZero"/>
        <c:auto val="1"/>
        <c:lblAlgn val="ctr"/>
        <c:lblOffset val="100"/>
        <c:noMultiLvlLbl val="0"/>
      </c:catAx>
      <c:valAx>
        <c:axId val="4314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438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800-750C-4F0C-A0A8-CE6A4D98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E01B-2EEA-4235-8B3D-3DC5CCB4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DF6F-ACBF-4B74-9F40-CD39D93D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A74-2847-4635-8F2F-9687894C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B560-3722-45F5-B7F6-3055CC43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56CB-C937-4A24-9390-54B42E18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355-9472-4645-82CE-6395CC13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0AAB-AD3E-4AB2-A716-0DA17A98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A1BE-6306-44AA-8BAA-9EAA2D68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E671-7083-46E9-9B31-2110F452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153-7CF9-4436-8007-0797B51D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184E-F2C6-4C6B-BA6F-1541A222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9F7C7-5CFE-4D7F-8171-9951A9EBF8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