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36810"/>
        <c:axId val="36699798"/>
      </c:barChart>
      <c:catAx>
        <c:axId val="4713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9798"/>
        <c:crosses val="autoZero"/>
        <c:auto val="1"/>
        <c:lblAlgn val="ctr"/>
        <c:lblOffset val="100"/>
        <c:noMultiLvlLbl val="0"/>
      </c:catAx>
      <c:valAx>
        <c:axId val="3669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3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51-3438-4BE0-89D2-059D6344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4FE-9A92-48BA-ADC3-CF64BBB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E1E-BAE2-4724-8B9F-1BC5F7BB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DDF-44FA-4B03-8FC0-7252C303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71F-4A77-47A7-95ED-E8CEC15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89D-0467-4B1D-B9CA-FA99D078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E18-DE6D-4E52-B0A0-14E398C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3D5-42B5-4ADD-8F5F-C1A4691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A95-94BB-4B41-8910-E6179E7D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50A-4360-4CA5-A3B2-DE00526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8B2-8428-476A-866B-E3B69D4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CD6-E319-4FA0-A282-7DEA6B9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13707-BBA1-4FEA-B8BD-6DA45D0E3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