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57480"/>
        <c:axId val="40536804"/>
      </c:barChart>
      <c:catAx>
        <c:axId val="50757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36804"/>
        <c:crosses val="autoZero"/>
        <c:auto val="1"/>
        <c:lblAlgn val="ctr"/>
        <c:lblOffset val="100"/>
        <c:noMultiLvlLbl val="0"/>
      </c:catAx>
      <c:valAx>
        <c:axId val="40536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57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FBF-C842-48B2-B2C4-C44E960B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782-EEC3-4D7E-A2E0-17DB6AFE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4D1-B850-4673-B34E-4D9B7CBB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B57-D769-4DD4-8196-7C26918B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F68-AECC-4993-98E8-DBA593D7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96B-1F3E-4428-AC44-4FC97F8C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B0E-41F7-455C-86D9-44CD54E6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C7F-3E49-4ABC-AE7B-809C18A0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0FC-60F3-4362-A39C-18E732F7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617-0539-4FD3-9C45-2D50E46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D2B-D176-42D0-BEC2-6364FA4C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7D8-3399-4129-9D0D-EA0D8B92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8F1B1-63AB-4D72-AD25-43ED401E72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