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595171"/>
        <c:axId val="80580819"/>
      </c:barChart>
      <c:catAx>
        <c:axId val="859517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580819"/>
        <c:crosses val="autoZero"/>
        <c:auto val="1"/>
        <c:lblAlgn val="ctr"/>
        <c:lblOffset val="100"/>
        <c:noMultiLvlLbl val="0"/>
      </c:catAx>
      <c:valAx>
        <c:axId val="8058081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9517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D494-12F6-4D8E-BC05-BC0E51BED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8C57-B200-4566-A31D-5D3BF39CF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A2CD-967F-433A-9904-7F79C77F9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C95E-D928-4D27-A1E5-2CBDB08CE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4AC5-CF9B-4CCB-A892-846D81C4B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CD75-4CC4-48D2-B0E4-774A55C37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8658-5C88-4D76-B1E9-234AC287E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1C50-E33D-4E14-BEE0-249D4D95F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618D-7A3E-448E-ABAF-5E7B38870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AA2D-27A1-43FD-A84E-D7C4A23DC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1225-8F1B-437C-9948-C621C93FF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1DB4-0927-4771-AD7E-E5635699F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511383-DB58-4A3F-878F-5A7DB8901D0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