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893338"/>
        <c:axId val="41154818"/>
      </c:barChart>
      <c:catAx>
        <c:axId val="23893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54818"/>
        <c:crosses val="autoZero"/>
        <c:auto val="1"/>
        <c:lblAlgn val="ctr"/>
        <c:lblOffset val="100"/>
        <c:noMultiLvlLbl val="0"/>
      </c:catAx>
      <c:valAx>
        <c:axId val="41154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93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42BF-BAFD-4BB7-BE70-D2173F18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B41E-5DF9-48EB-BED8-DDBF6BC6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605-26EE-4D3C-8F42-39AEBB6E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30F6-FBCA-4C5E-A490-3001DDBF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144-6037-44D1-B2C1-E9FF4DBB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50C6-3A60-4D0B-AF6C-ADA841D7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A955-7FBE-4519-9DB0-183CB3EB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D01D-A50C-4022-B3DF-80C1BC94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123-7EE2-4B09-89CE-F085F659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ED8F-4C52-485C-AA4F-31E124D0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5F5-B196-41FC-BB69-8D198D69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C1C0-1075-4C5E-ABC8-6AEAFBD5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8A3E7-2E9D-44F4-A5F4-BDEF968BF8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