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29035"/>
        <c:axId val="24975562"/>
      </c:barChart>
      <c:catAx>
        <c:axId val="419290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75562"/>
        <c:crosses val="autoZero"/>
        <c:auto val="1"/>
        <c:lblAlgn val="ctr"/>
        <c:lblOffset val="100"/>
        <c:noMultiLvlLbl val="0"/>
      </c:catAx>
      <c:valAx>
        <c:axId val="24975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290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9D0-BB4F-44C5-93F4-888B7D86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441-D21D-438B-BD82-53C2D2BE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3A3-9A07-497D-A336-0A4C3D1E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6F5-FC8F-4804-90AF-7321EEB1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331-4E4A-4CCA-AF5F-89C7E980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91E-8A69-40BE-9F7C-DB64D85C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FD6-D0F1-4F57-B4DD-995FAEF8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BA0-8CA1-4849-8BD3-64A22572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D37-9275-4C87-8F1D-6D8DBB5D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B04-9C02-4781-9973-540E2B4F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858-382C-4151-9BC5-F0102337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908-BA3C-4D32-A651-D43685D0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2EBFC-4E61-4D5D-A0E1-B76C9B8F0F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