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02380"/>
        <c:axId val="86124880"/>
      </c:barChart>
      <c:catAx>
        <c:axId val="81502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4880"/>
        <c:crosses val="autoZero"/>
        <c:auto val="1"/>
        <c:lblAlgn val="ctr"/>
        <c:lblOffset val="100"/>
        <c:noMultiLvlLbl val="0"/>
      </c:catAx>
      <c:valAx>
        <c:axId val="86124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02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5D7-E7B9-4DDA-8B83-BBDA883B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E99-2435-455F-891A-A981186B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24A-8D27-4F0F-A95E-BDFCEC30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0DD-437A-4B17-9F0C-BE43FB08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084-26E0-4070-9F97-568001D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FFE-4C62-4F7B-B42D-186F8830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AF0-6E6D-43C6-B7E7-3DDA3109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5E7-09AA-4631-ABBE-963DD6B0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8B2-7260-4D9F-A584-49CECB49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E4B-D3B0-42D4-A2B5-C4FE996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295-21C5-4CDE-B894-34BA38C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CF6-EBE1-4FB4-A38B-4907875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52FC5-EBAC-49BD-9E96-B270B7341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