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38640"/>
        <c:axId val="96677568"/>
      </c:barChart>
      <c:catAx>
        <c:axId val="950386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77568"/>
        <c:crosses val="autoZero"/>
        <c:auto val="1"/>
        <c:lblAlgn val="ctr"/>
        <c:lblOffset val="100"/>
        <c:noMultiLvlLbl val="0"/>
      </c:catAx>
      <c:valAx>
        <c:axId val="966775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386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D7DD-5BA2-410C-B34C-0078C56D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936-7969-4E3B-9AD2-E8581008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A5A-F49C-4C66-AD42-93EF4929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7D9-7953-41D5-9C41-86E3BC23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45F-84DC-4C9F-A50D-A75C27FD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6B7-872B-4774-B35C-1DF723EF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6C3-48F6-426D-B82E-F154908E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EF4-8A1C-47A3-9538-A9E421C6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55A-FF71-494C-8A9E-B5A44166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49CD-0A59-4480-BAD1-593A5ECA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A90A-2B96-4120-B765-A0E1BDEF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858-4130-47A4-BD04-BFC05DFA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99D8D-780E-45C0-A8A7-84280017C6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