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29910"/>
        <c:axId val="98250973"/>
      </c:barChart>
      <c:catAx>
        <c:axId val="92829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0973"/>
        <c:crosses val="autoZero"/>
        <c:auto val="1"/>
        <c:lblAlgn val="ctr"/>
        <c:lblOffset val="100"/>
        <c:noMultiLvlLbl val="0"/>
      </c:catAx>
      <c:valAx>
        <c:axId val="98250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29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35D-BCC9-4D63-B5C6-451D19E5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BAA-624F-4BB0-BDE0-CF4EF13D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C34-590F-42D4-8B3A-F2E7C183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061-6DDF-4BCD-8B05-1396F609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DEF-B78F-42BE-A332-2E3F19AE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833-A469-47C6-99C1-C9AB9225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28C-41ED-46C2-9A4C-6C483036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6BD-B93B-44DA-A9B8-32F44E7D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5C8-CB3B-4FF7-B9ED-5C1AAB27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BA5-AE68-45E5-9315-4B25399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36B-8785-45EE-99A3-CA62F52C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68F-A5F5-4C68-BAE3-C0427E09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62636-75CA-42B8-BEB0-96F80FB898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