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40131"/>
        <c:axId val="52921411"/>
      </c:barChart>
      <c:catAx>
        <c:axId val="53140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21411"/>
        <c:crosses val="autoZero"/>
        <c:auto val="1"/>
        <c:lblAlgn val="ctr"/>
        <c:lblOffset val="100"/>
        <c:noMultiLvlLbl val="0"/>
      </c:catAx>
      <c:valAx>
        <c:axId val="52921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40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4AE-5523-49B5-B7CE-B16C01EA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FA6-0EA1-41C8-8316-7A7F12B7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B73-BDB0-4F3D-9FD2-D89EED32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114-8544-4EB0-AC58-848F63AB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924-DA91-440A-A792-16FC9896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150-C3D6-4F9C-85A9-CCFA2715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CA5-C05F-4BFA-A8E5-0FB8535B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37A-642A-42F1-BC4D-B8117B7E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149-0FF1-4EDE-A119-ECC8C21D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79F-A270-43F7-9D4D-6013992F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203-75CF-489B-840C-2FA3D2CB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2166-4E7C-4B6A-A79C-5D908964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01D83-B150-456F-8225-EF14592345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