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96429"/>
        <c:axId val="31245464"/>
      </c:barChart>
      <c:catAx>
        <c:axId val="36696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45464"/>
        <c:crosses val="autoZero"/>
        <c:auto val="1"/>
        <c:lblAlgn val="ctr"/>
        <c:lblOffset val="100"/>
        <c:noMultiLvlLbl val="0"/>
      </c:catAx>
      <c:valAx>
        <c:axId val="31245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96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7AB-7105-476C-A3A9-BFE4CE32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118-8C41-47DF-A375-AFE0DC83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AE2-390B-4A21-AD7D-178DBB67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0DB-D129-4510-8D19-AAB791F6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9FA-A8D7-4B4D-ACF5-84806E98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7AA-DB8A-421B-BF46-45A01B98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B6F-2F46-4C5D-AC41-0196C740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E2A-C7AD-46AE-AE2D-B954B5D3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95D-E1A0-426A-A81D-EAD1317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C5A-398F-4055-8924-C1FC9395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69A-0B27-46B8-B1A9-76046D25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414-6271-43A3-BA93-923C0D27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8403B-E8D6-48E6-A1C5-347ACF5721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