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88124"/>
        <c:axId val="89658432"/>
      </c:barChart>
      <c:catAx>
        <c:axId val="18088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58432"/>
        <c:crosses val="autoZero"/>
        <c:auto val="1"/>
        <c:lblAlgn val="ctr"/>
        <c:lblOffset val="100"/>
        <c:noMultiLvlLbl val="0"/>
      </c:catAx>
      <c:valAx>
        <c:axId val="89658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88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8BD-0955-4533-A938-EB83BDED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83F-010E-4BE0-B856-39E1852C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F3E-F399-4FA3-A5A8-99DD3299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3FE-29FC-4F57-80E1-96A257A7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5C7-2020-4676-B326-E565C76B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E3B-D942-4C45-A4D0-B7DB9DB1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21D-E5BD-4F49-B720-DFE53F5D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AAC-07E6-4E8A-9658-D199E06C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7DF-112E-4970-9775-0C5201F8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3FA-F173-476F-82B2-7779CCB6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FC0-F982-46C0-97A4-CB264CFE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40F-C15A-4D3B-9DC2-CB98C1F0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26531-D8B3-479A-B74D-EEDE594040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